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9C2-88F5-47EB-8180-7CDFAEF55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9A8E-9D70-410B-85C5-017884042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212-0C15-42EA-9591-62E720D2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AF2-4CA3-4340-AD1C-46B4D88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BBAAF3-CBDC-481E-978D-29D84259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21061-7BDA-4527-9CE7-3E2D0FBA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BC86E3-C57D-4079-AE24-E1145510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927C8-A790-4742-A48A-569483C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6B3B4-C1DA-4E55-9554-2844DBD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57B6D-1F9F-4850-9239-9A455A8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43170-AD6E-4667-9192-2691B732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F87780-3663-46B5-AA2E-EDC2072C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2079B3-B0D0-4388-AC08-45F039E4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FAB-8DB1-419A-9D00-1270BD1B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D2C-A891-42F9-94ED-6C3DFD2B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1351-F35A-46C1-A097-DE49682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401BE-BB40-4E42-A1CD-2BC27B8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0C23D-0A25-4C68-A88F-B7BA4EF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6AFA-8E19-444E-84FB-EB6BF215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85F37-0FB9-43AF-BCF3-8862CA0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E3B2-0A92-4CDC-896B-170D6DE6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A42CC-F76B-49C7-A2B6-EA7A50F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690-2594-44D1-B8E4-88BD269B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42D02-E66F-4E85-A84D-340B140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3E225-DCE8-4619-B51B-7D46AEE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B342-2D60-4DB1-9697-029A2B2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59015-C2D6-44D6-97A5-4D9DE605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16954-9841-4885-9435-935AC6E8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58B8-9016-4387-87C2-A2A056FA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B67DB-D59A-4518-8D46-334654D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D7B4-A64B-4094-B732-CADFF4D7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EF4A-2259-4E59-92C9-23D2D256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FB83-3F7F-46CC-B0FF-CD9C787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FC0-FC3D-4AAE-BB5C-FBF72B6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358B-7586-4C51-A968-BD32E01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8587-BEC4-41A4-A321-B531F19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2153-4613-4F53-8BFC-CFE2CF1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DB3F-4458-4EEC-BEE7-761AAE3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1BF9-4595-4E83-B6B0-C8AA120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AF08-B722-4BE2-9143-9A11793C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BE8E-9BF8-4318-B599-B9B89D5E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D9DA5-F42B-41F2-B3B7-01B7BA76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4884B-DF89-41AC-ACDB-A1EEEDF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71994-9AD8-49E8-9716-F7169B9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35E-132B-45C4-84D0-595826F1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EB395-99AF-470E-BE8F-95D63892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73AAF-341D-44F5-B5A5-423EC9E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34D97-0C92-4007-96F4-5836362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1518D-BA08-47CA-BD87-B7B4A31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6CE78-52F0-45C4-AF27-4F764F2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C7356-5EE6-4D89-9E6D-F9CB01E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C6D37-E1DA-4791-B404-044C4B77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0CDED-0678-487F-AE4F-B9833BC2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4F386-B4F2-46DF-A873-D4841266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1677-4D16-4776-A0C8-0D71B7C8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03C-6153-4133-BA2B-8071214D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0346-19F2-4051-87C3-144B7B8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EBC02-92DA-498D-9765-81F04AED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FDE0-C067-4376-AC83-7BADBBD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2BC1-93C9-45C3-B05A-40663105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2101-6F3C-4445-8FEF-74DDDE5D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77CB-AA7D-448C-9323-65B79CD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8CE9-CF5B-4580-ADA4-1C6412D7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8DE7-79B5-4E45-AFE4-1CFDF76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D995-AAE7-4ECD-A8C2-6C5E687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ECD06-118C-4961-89E8-E324E794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794-32CD-4936-B4B5-B34F180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764FE-8D31-4BD8-9B3E-F1139EFC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9DED-D87B-413B-8816-721F44BC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14716-CA81-42BC-B305-456C8ABC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EB67B-20B9-4718-9031-95659E49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6372-459E-4BA5-ACEA-C6D2AA31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1E6D-0309-4836-AEAC-BEEE461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5720-6BE5-4E11-BD52-5C47FCF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018D-44AF-44F0-9B3A-01AB6BD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D4DC-FE2C-429E-B4CA-1724D00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4639E-5474-48FC-A6D0-E0A90DA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9CD-BC58-4CD4-84C6-3A2C974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3AED-F362-45DC-A35D-B740418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BECB-A7C4-48C0-9C78-2B37D7AA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92F0-4EFC-478E-85D0-1467C481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9680-B113-4C58-8F0D-F53A857E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BB3A5-2A8A-4371-9532-1D19DA7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5BD0-16FB-4BF3-A950-134AA0A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E390-E819-463B-A9C6-279B2C5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83B4-D21F-43D9-9817-BCD3241B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930D-A254-4771-817E-04756DD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9235-230A-4CC4-A6EE-EB699CB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E38-7204-4945-B143-4F0A253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DA60D-03C2-4103-9C8B-EEF4FC3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2203-C1EC-4783-97D7-1F8300A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74FD-C12C-47F2-A05D-49A7794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6D32-F5D5-4BB1-807A-F4AFFA6B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17E2-04C4-44F1-8817-8C46CE10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05745-6822-46B5-97AD-45EB6119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C4489-CF5E-4B7C-9570-05CBDAD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F9D081-DE2C-43AC-B6A7-00D25E8A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6C60EA-99CF-4475-A7B1-D050E24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62092-3262-4D5F-97FB-86600D52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DAC-96C3-4702-8D29-27E0738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76FEC-B591-4EB9-94F6-DC0B547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79B68-01AC-40C8-9D11-C23ACA9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6B8A3-A513-43BB-981D-04ACADE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3A1ED-B11A-498B-B898-D597201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B1D06-4B27-4A18-A135-CCE6251A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B6A8C-4EA7-406A-955C-B4C4022C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1F6C8C-0E9A-4DBF-86F2-CE58E9A7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19FDE-7C70-4E01-A473-2C465EC6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4EFA07-96A6-4E6A-8959-2E647343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77485-355B-46C9-973D-112E1D84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22E4-0094-417A-92B0-0E2C57B853CF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0CD-D5BF-4EC1-AF59-718519E8013B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E615-EC60-4BE2-86B4-C6B5C8FC70E5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AB8-58F5-48DE-9462-74598292824D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DC5-771C-4C16-BABA-6FFBA57D0F0E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EA18-585C-4DF1-9CB8-63C4AF05C967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05E1-DE97-4344-A83A-CDAE500D9F41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30ED-35B0-4505-B7FE-4CBE239D73AC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18E9-1921-4B8B-BEFF-E8AF3EC4E117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ISsLEU4Cld0" TargetMode="External"/><Relationship Id="rId3" Type="http://schemas.openxmlformats.org/officeDocument/2006/relationships/hyperlink" Target="http://www.youtube.com/watch?v=sEuhKRhrvRM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66-148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ystem of ideals and social codes governing the behavior of knights and gentlewo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d taking an oath of loyalty to an overlord and observing certain rules of warfare, such as never attacking an unarmed oppon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Fren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70588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rimary duty of males above serf class was military service to their lord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ge – young boys (around age 7) were sent to the home of a lord to begin training.  They were trained in other homes to ensure the training was strict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ead, write, sing, dance, play the harp, play chess, and rules of good manners by the ladies and the clergyme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ide, wrestle, joust, and use a sword by squir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ire – around age 14; personal servant to a kn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ed the knight dress, served meals, made his bed, carried armo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urtly love – the idea that adoring a lady would make a knight braver and nobler; in its ideal form, courtly love is nonsexua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 knight might wear his lady’s colors in battle, glorify her in words, be inspired by her, but she was always pure and remained out of reach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 – around age 21; huge ceremony; he held an all-night vigil in full arm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olade – 3 strokes with the flat side of a sword (“dubbed”); originally a hard blow meant to test the courage of the pers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ss – gifts given to the knight from his patron knight and gifts from the new knight to his companions and inferi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itle of “Sir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uty of a knight – service to God, his lord, and his la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7088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de for refinement in a rough 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couraged loyalty and cour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lted the position of wome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no account of the common peopl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some virtues to absurd length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ust – 2 knights ride at each other with lances; if either is unhorsed, they continue to fight on foot with swords (think of this as maybe a wrestling match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urney proper – several knights on horseback with swords until one party was defeated or the herald stopped the contest (think of this as a football gam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 – oval enclosure surrounded by two rows of seats (think of this as a stadiu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vilion – located at each end of the list for the opposing knights (think of this as the locker 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alds – presided over tournaments and enforced  rules (think of this as the refere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2"/>
              </a:rPr>
              <a:t>http://www.youtube.com/watch?v=ISsLEU4Cld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3"/>
              </a:rPr>
              <a:t>http://www.youtube.com/watch?v=sEuhKRhrv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mor in the early Middle Ages consisted of a helmet, a shield, and a mail shir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weapons became more deadly, the need for more protection of heavier armor led to compromised flexibility and mobil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rmor was held together by rivets, leather straps, hinges, turning pins, buckles, and peg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 heavily padded undergarment of leather and a mail shirt were worn under the armor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late arm, leg, and foot pieces were also wor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suits weighed 120 pounds and had 200 custom-fitted iron plat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The knight also carried a dagger, a lance, a sword, a battle-ax, and a club-headed mac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lliam, duke of Normandy, and King Harold of Englan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y-long battl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ctober 1066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ear Hastings, Englan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lliam felt Harold had wrongly taken the throne when Edward died, so he went to take back what he felt was rightfully hi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lliam, Duke of Normandy, defeated King Harold of England, the last Saxon k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eginning of the Norman Conques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ddition to the threat of battle, the armor itself could be fa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could die from suffocation, heart failure, heat stroke, even drown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were unable to dress themselv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les were scheduled to give the knights time to dress.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rvants stood nearby in order to help knights who had been unhors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to today’s un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--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Guild – organized to include all those who sold goods in the tow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monopolize the trade of its particular c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afts Guild – organization of artisans of various tra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securing competent workmen and honest produc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vels of Craftsme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pprentice – lived with a master craftsman for 7 years; received no pay, but he was instructed in the art by the master craftsman; supplied with all his necessities; morals guard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ourneyman – if apprentice lacked money to become a master, he could continue to live and work with the master; did receive pa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land except that which was farmed for the lord was treated as one big fa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termined to a large extent the life of the peasan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hurch concerned itself with almost every act of every man, regardless of ran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Lat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illegitimate son of the previous duke of Normand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sin to Edward the Confessor (the king before Harol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dward died childless early in 1066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rold of Wessex was crowned the following da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claimed that the King Edward had promised him the thro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gathered a huge army and sailed across the English Channel to seize what he felt was rightfully h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did not want to conquer the Anglo-Saxons; he just wanted to rule th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use of that, we have a culture and a language that is a combination of Norman and Anglo-Saxon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nglo-Saxons provided more democratic and artistic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Normans provided administrative ability, emphasis on law and order, and cultural un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e of William’s greatest feats was the Doomsday Book – an inventory of nearly every piece of property in England—land, cattle, and building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the first time, people in Europe were taxed on what they own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urvey helped to solidify the feudal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udalism is a social hierarchy that was recognized for centur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was a social system, a caste system, a property system, and a military system.  (A caste system is a system based on birth or wealth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d on a religious concept of rank with God as the supreme overlo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ontent Placeholder 3" descr=""/>
          <p:cNvPicPr/>
          <p:nvPr/>
        </p:nvPicPr>
        <p:blipFill>
          <a:blip r:embed="rId1"/>
          <a:stretch/>
        </p:blipFill>
        <p:spPr>
          <a:xfrm>
            <a:off x="262080" y="360360"/>
            <a:ext cx="8431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requiring that nobles swear loyalty to him, William was establishing the principle of centralized government in Englan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feudal system did not always work.  Occasionally, a vassal might choose not to honor his obligations, and battles between iron-clad knights would break ou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2:53Z</dcterms:created>
  <dc:creator>pcoles</dc:creator>
  <dc:description/>
  <dc:language>en-US</dc:language>
  <cp:lastModifiedBy>pcoles</cp:lastModifiedBy>
  <dcterms:modified xsi:type="dcterms:W3CDTF">2012-09-14T15:19:05Z</dcterms:modified>
  <cp:revision>21</cp:revision>
  <dc:subject/>
  <dc:title>The Middle Ages</dc:title>
</cp:coreProperties>
</file>